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E8A03-B180-4245-B872-6197F528A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F4F1E-BE21-4FD3-A6EA-AD061FDDA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C8131-3011-4510-9D33-8EF5742F2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1E2DB-3040-4525-AC87-FEF1BDA15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0AAE3-86DF-4FB2-8F46-97D7C32CD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D1F78-5459-4A4E-BE5C-8046584EA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83F70-EA47-418E-A199-6693020C5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3899A-8E3E-4B7E-B356-6D639BA0C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D451E-0098-4ED9-81F2-AD22DB356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7BCF3-7A4C-44D9-8298-DF20034C1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1D58F-3244-4CE4-9AE8-67948E085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D8D62-3DC6-427E-88E1-E757DF266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389CA-BE67-4E9E-89E2-E296175A2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735C1-7968-4402-BF60-5892AFFE1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37A5C-8690-45F4-91D8-C6A7E8F1B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58727-B904-43E4-92E5-F297EABF8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EC8B2-06D4-4A54-B7DF-97CBA43C4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5F3B6-E078-460D-96FE-44CA7E86C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A1370-8500-4816-AF98-C18B4ACF9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EE1EC-DE02-418F-B43C-827FF97A2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83E0A-5DF3-4612-85AB-1FD5F6E0C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595F2-390C-4082-A519-70FB74A94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649E8-9AAB-4642-88B3-8F4DCC9D6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1D7D7-BAE3-4866-A26F-262FF2AD8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25D5C-72CA-4F3A-8FE7-C5E5A48A892C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9CF3A-B95B-4DAE-9772-FB517C81A657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americancivilwar.com/getty.html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freefoto.com/images/11/47/11_47_1---United-States-Flag_web.jpg&amp;imgrefurl=http://www.freefoto.com/preview/11-47-1%3Fffid%3D11-47-1&amp;usg=__goQUKfqSkfuPwDWE7j9oDZpMcl8=&amp;h=400&amp;w=600&amp;sz=239&amp;hl=en&amp;start=4&amp;tbnid=Ow4t5AoxPbUgbM:&amp;tbnh=90&amp;tbnw=135&amp;prev=/images%3Fq%3Dunited%2Bstates%2Bflag%26gbv%3D2%26hl%3Den%26safe%3Dactive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32448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99ff"/>
                </a:solidFill>
                <a:latin typeface="Arial"/>
              </a:rPr>
              <a:t>Battle of Gettysburg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ff"/>
                </a:solidFill>
                <a:latin typeface="Verdana"/>
              </a:rPr>
              <a:t>By: Ellie Jacobs and Daniel Trump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nclusion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ff"/>
                </a:solidFill>
                <a:latin typeface="Verdana"/>
              </a:rPr>
              <a:t>Confederate retreated.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ff"/>
                </a:solidFill>
                <a:latin typeface="Verdana"/>
              </a:rPr>
              <a:t>The union won.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ff"/>
                </a:solidFill>
                <a:latin typeface="Verdana"/>
              </a:rPr>
              <a:t>Gettysburg was one of the most largest and most crucial battles.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comb dir="horz"/>
  </p:transition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0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8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8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8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8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ork cited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Verdana"/>
              </a:rPr>
              <a:t>http://www.sonofthesouth.net/leefoundation/civil-war/1863/august/battle-gettysburg.jp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Verdana"/>
                <a:hlinkClick r:id="rId1"/>
              </a:rPr>
              <a:t>http://americancivilwar.com/getty.htm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Verdana"/>
              </a:rPr>
              <a:t>http://www.visit-gettysburg.com/images/day-1-battle-lines.jp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0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15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5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15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5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150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50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15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5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Interesting facts.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Verdana"/>
              </a:rPr>
              <a:t>July 1st, 1863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Verdana"/>
              </a:rPr>
              <a:t>Battle lasted three day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Verdana"/>
              </a:rPr>
              <a:t>The Gettysburg address came from this battle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Verdana"/>
              </a:rPr>
              <a:t>The confederate had a total of 75,000 men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Verdana"/>
              </a:rPr>
              <a:t>The union had a total of 90,000 men.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Day 1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572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obert E. Lee decided to take war north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lso wanted attention at Philadelphia, Baltimore, and Washingt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4" name="" descr="Gettysburg-July 1, 1863"/>
          <p:cNvPicPr/>
          <p:nvPr/>
        </p:nvPicPr>
        <p:blipFill>
          <a:blip r:embed="rId1"/>
          <a:stretch/>
        </p:blipFill>
        <p:spPr>
          <a:xfrm>
            <a:off x="5257800" y="1295280"/>
            <a:ext cx="3309840" cy="491508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Day 1 continued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onfederate troops attacked union Calvar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Union pushed confederates back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ey prevailed until afternoon when war confederates came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4800600" y="1523880"/>
            <a:ext cx="4038480" cy="41148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898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898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898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898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Day 2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July 2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e battle lines moved two acr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James Longstreet (confederate) broke through Sickle’s lin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R. S. Ewells (Union) took over East Cemetery hill and Culp’s hil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e confederates were very close to taking over the unions supply trains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0" name="" descr="Gettysburg-July 2, 1863"/>
          <p:cNvPicPr/>
          <p:nvPr/>
        </p:nvPicPr>
        <p:blipFill>
          <a:blip r:embed="rId1"/>
          <a:stretch/>
        </p:blipFill>
        <p:spPr>
          <a:xfrm>
            <a:off x="5181480" y="1600200"/>
            <a:ext cx="3133800" cy="4610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Day 3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July 3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Robert Lee tried to soften Union lin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George E. Pickett used 15,000 confederate troops to try and assault the union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3" name="" descr="Gettysburg-July 3, 1863"/>
          <p:cNvPicPr/>
          <p:nvPr/>
        </p:nvPicPr>
        <p:blipFill>
          <a:blip r:embed="rId1"/>
          <a:stretch/>
        </p:blipFill>
        <p:spPr>
          <a:xfrm>
            <a:off x="5257800" y="1523880"/>
            <a:ext cx="3027240" cy="46101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Day 3 continued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n 50 minutes 10,000 became casualties from the attack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e failed to break through union lines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ore then 66% of general pickett's men died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d"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191" dur="2000" fill="hold"/>
                                        <p:tgtEl>
                                          <p:spTgt spid="1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Arial"/>
              </a:rPr>
              <a:t>Union Casualties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00"/>
                </a:solidFill>
                <a:latin typeface="Verdana"/>
              </a:rPr>
              <a:t>There were 3,155 killed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00"/>
                </a:solidFill>
                <a:latin typeface="Verdana"/>
              </a:rPr>
              <a:t>4,530 wounded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00"/>
                </a:solidFill>
                <a:latin typeface="Verdana"/>
              </a:rPr>
              <a:t>5,365 missing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00"/>
                </a:solidFill>
                <a:latin typeface="Verdana"/>
              </a:rPr>
              <a:t>27% of army were killed, wounded, or missing.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212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898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898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898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898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Arial"/>
              </a:rPr>
              <a:t>Confederate Casualties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00"/>
                </a:solidFill>
                <a:latin typeface="Verdana"/>
              </a:rPr>
              <a:t>There were 2,600-4,500 killed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00"/>
                </a:solidFill>
                <a:latin typeface="Verdana"/>
              </a:rPr>
              <a:t>12,800 wounded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00"/>
                </a:solidFill>
                <a:latin typeface="Verdana"/>
              </a:rPr>
              <a:t>5,250 missing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00"/>
                </a:solidFill>
                <a:latin typeface="Verdana"/>
              </a:rPr>
              <a:t>30-34% of the army were killed, wounded, or missing.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3T12:07:02Z</dcterms:created>
  <dc:creator>danielmtrump</dc:creator>
  <dc:description/>
  <dc:language>en-US</dc:language>
  <cp:lastModifiedBy>danielmtrump</cp:lastModifiedBy>
  <dcterms:modified xsi:type="dcterms:W3CDTF">2009-03-20T12:11:34Z</dcterms:modified>
  <cp:revision>9</cp:revision>
  <dc:subject/>
  <dc:title>Battle of Gettysburg</dc:title>
</cp:coreProperties>
</file>